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4E92-CB1B-440C-A718-E9BEAF6B1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9" name="PlaceHolder 1"/>
          <p:cNvSpPr>
            <a:spLocks noGrp="1"/>
          </p:cNvSpPr>
          <p:nvPr>
            <p:ph type="sldImg"/>
          </p:nvPr>
        </p:nvSpPr>
        <p:spPr>
          <a:xfrm>
            <a:off x="851040" y="744480"/>
            <a:ext cx="4962240" cy="3722760"/>
          </a:xfrm>
          <a:prstGeom prst="rect">
            <a:avLst/>
          </a:prstGeom>
          <a:ln w="0">
            <a:noFill/>
          </a:ln>
        </p:spPr>
      </p:sp>
      <p:sp>
        <p:nvSpPr>
          <p:cNvPr id="8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82" name="PlaceHolder 1"/>
          <p:cNvSpPr>
            <a:spLocks noGrp="1"/>
          </p:cNvSpPr>
          <p:nvPr>
            <p:ph type="sldImg"/>
          </p:nvPr>
        </p:nvSpPr>
        <p:spPr>
          <a:xfrm>
            <a:off x="851040" y="744480"/>
            <a:ext cx="4962240" cy="3722760"/>
          </a:xfrm>
          <a:prstGeom prst="rect">
            <a:avLst/>
          </a:prstGeom>
          <a:ln w="0">
            <a:noFill/>
          </a:ln>
        </p:spPr>
      </p:sp>
      <p:sp>
        <p:nvSpPr>
          <p:cNvPr id="8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51040" y="744480"/>
            <a:ext cx="4962240" cy="3722760"/>
          </a:xfrm>
          <a:prstGeom prst="rect">
            <a:avLst/>
          </a:prstGeom>
          <a:ln w="0">
            <a:noFill/>
          </a:ln>
        </p:spPr>
      </p:sp>
      <p:sp>
        <p:nvSpPr>
          <p:cNvPr id="8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7"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2503-0186-4D7E-9FF0-778313B4D5C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1684C-24C5-4933-9C5E-9CEE3F01C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86F8F-8F30-43D2-BDD0-81E27C24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1819E-B366-4A52-95AE-CF4A5912A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121E8-DC6A-41CE-AFFB-7CDA613E6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9FB6-41C2-445A-BE0B-39AEDE53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4E83-C06B-4B16-B89E-0217511B7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67FF8-4566-4215-BFD3-2E070835E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7782-857A-46C3-898A-5F8468FBD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5109-A698-417E-B234-B75F6C90D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BDA3-278A-4C8D-8863-739D05A0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33199-80ED-46C9-BFAD-870283DA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2EEF-12A1-4B11-BB4A-0CE9668AD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2731-B13C-4049-9AB6-49FFF6BD2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151920"/>
            <a:ext cx="320364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Kodomo no Hi </a:t>
            </a:r>
            <a:br>
              <a:rPr sz="3600"/>
            </a:br>
            <a:r>
              <a:rPr b="0" lang="en-GB" sz="3600" spc="-1" strike="noStrike">
                <a:solidFill>
                  <a:srgbClr val="000000"/>
                </a:solidFill>
                <a:latin typeface="Arial"/>
              </a:rPr>
              <a:t>Children’s Day</a:t>
            </a:r>
            <a:endParaRPr b="0" lang="en-US" sz="3600" spc="-1" strike="noStrike">
              <a:solidFill>
                <a:srgbClr val="000000"/>
              </a:solidFill>
              <a:latin typeface="Arial"/>
            </a:endParaRPr>
          </a:p>
        </p:txBody>
      </p:sp>
      <p:sp>
        <p:nvSpPr>
          <p:cNvPr id="75" name=""/>
          <p:cNvSpPr txBox="1"/>
          <p:nvPr/>
        </p:nvSpPr>
        <p:spPr>
          <a:xfrm>
            <a:off x="0" y="4581360"/>
            <a:ext cx="9134640" cy="22608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end of April, most families who have a son will fly a tall pole complete with carp shaped streamers outside their houses. There are usually several carp on the pole, the largest one representing the father, followed by the mother and then the children. Can you work out which carp is which in the photograph?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p is thought to be a symbol of strength and courage. This is because carp can swim upstream and according to a Chinese legend, upon completing his journey, one carp was rewarded by being changed into a drag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https://minnanokyozai.jp/kyozai/material/SPA00216/64039001.jpg"/>
          <p:cNvPicPr/>
          <p:nvPr/>
        </p:nvPicPr>
        <p:blipFill>
          <a:blip r:embed="rId1"/>
          <a:stretch/>
        </p:blipFill>
        <p:spPr>
          <a:xfrm>
            <a:off x="3203640" y="115920"/>
            <a:ext cx="5837040" cy="4232160"/>
          </a:xfrm>
          <a:prstGeom prst="rect">
            <a:avLst/>
          </a:prstGeom>
          <a:ln w="0">
            <a:noFill/>
          </a:ln>
        </p:spPr>
      </p:pic>
      <p:sp>
        <p:nvSpPr>
          <p:cNvPr id="77" name="テキスト ボックス 4"/>
          <p:cNvSpPr/>
          <p:nvPr/>
        </p:nvSpPr>
        <p:spPr>
          <a:xfrm>
            <a:off x="33480" y="1700280"/>
            <a:ext cx="28270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Day is celebrated in Japan on May 5th. All children celebrate this event, although traditionally the festival is associated with boys and is therefore often referred to as Boys’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7T16:24:51Z</cp:lastPrinted>
  <dcterms:modified xsi:type="dcterms:W3CDTF">2014-03-10T16:35:43Z</dcterms:modified>
  <cp:revision>22</cp:revision>
  <dc:subject/>
  <dc:title>スライド 1</dc:title>
</cp:coreProperties>
</file>